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8BC-6757-46B8-834F-FCDB63D9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5AC-4102-4E7A-A76F-19A84054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EDC-573C-4EE0-BC36-430C1426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EDC-6E19-4877-AD4F-F519DA4C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CBE-CB79-427E-B782-8A80E7BC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8AF-EFC0-4554-B5EC-335D5AD3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7EB-0038-4839-9978-D9536A0F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CA4-0C97-4479-A3DA-A4B5AD7A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8F7-33C3-4BF7-A698-9E0E522D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9F1-82D7-4820-BAE5-146BB3D0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60E-6CFF-4365-B3A0-1A459F94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6EA-BB9E-4E18-9EB3-379F1C9A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8C68-F6BA-4AA6-956E-9DC3EB2D626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19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1628640"/>
          <a:ext cx="8229600" cy="4565880"/>
        </p:xfrm>
        <a:graphic>
          <a:graphicData uri="http://schemas.openxmlformats.org/drawingml/2006/table">
            <a:tbl>
              <a:tblPr/>
              <a:tblGrid>
                <a:gridCol w="1224000"/>
                <a:gridCol w="431640"/>
                <a:gridCol w="730440"/>
                <a:gridCol w="730080"/>
                <a:gridCol w="731880"/>
                <a:gridCol w="730440"/>
                <a:gridCol w="730080"/>
                <a:gridCol w="730440"/>
                <a:gridCol w="730080"/>
                <a:gridCol w="730440"/>
                <a:gridCol w="730080"/>
              </a:tblGrid>
              <a:tr h="550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-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4 «Всего» не следует указывать прочий персона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(всего) должна быть равна сумме строк 1, 2, 3 по графам 3, 4, 5, 6, 7, 8, 9, 10, 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=141.1000.1.03 + 141.1000.2.03 +141.1000.3.03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=141.1000.1.04 + 141.1000.2.04 +141.1000.3.04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=141.1000.1.05 + 141.1000.2.05 +141.1000.3.05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=141.1000.1.06 + 141.1000.2.06 +141.1000.3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=141.1000.1.07 + 141.1000.2.07 +141.1000.3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=141.1000.1.08 + 141.1000.2.08 +141.1000.3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 на д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9=141.1000.1.09 + 141.1000.2.09 +141.1000.3.09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0=141.1000.1.10 + 141.1000.2.10 +141.1000.3.1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1=141.1000.1.11 + 141.1000.2.11 +141.1000.3.1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 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№ 438 от 9 декабря 1999 г.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0, 22 – выписано детей до 3 ле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4, 26 – число проведенных пациенто-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ьми до 3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1484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1268280"/>
          <a:ext cx="8496360" cy="5048280"/>
        </p:xfrm>
        <a:graphic>
          <a:graphicData uri="http://schemas.openxmlformats.org/drawingml/2006/table">
            <a:tbl>
              <a:tblPr/>
              <a:tblGrid>
                <a:gridCol w="1008000"/>
                <a:gridCol w="360360"/>
                <a:gridCol w="503280"/>
                <a:gridCol w="505080"/>
                <a:gridCol w="503280"/>
                <a:gridCol w="504720"/>
                <a:gridCol w="50328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365400"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Box 5"/>
          <p:cNvSpPr/>
          <p:nvPr/>
        </p:nvSpPr>
        <p:spPr>
          <a:xfrm>
            <a:off x="2556000" y="386064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547640" y="429264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4067280" y="4292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659640" y="4221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659640" y="48690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4067280" y="4869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4067280" y="5300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6643800" y="52862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547640" y="537372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2556000" y="587700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5480" y="1071360"/>
            <a:ext cx="8605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 в дневных стационарах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 в дневных стационара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628640"/>
          <a:ext cx="8496360" cy="49262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6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1268280"/>
            <a:ext cx="83012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следует заполнять целыми числами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0 - число выписанных детей до 3 лет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4 - число проведенных пациенто-дней детьми до 3 л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5 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6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765000"/>
            <a:ext cx="85359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5. = 141.3000.1.12.+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6. = 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2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3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6018120"/>
            <a:ext cx="8929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0 графам 10, 11,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28760" y="928800"/>
          <a:ext cx="8286480" cy="514332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460440"/>
                <a:gridCol w="552600"/>
                <a:gridCol w="552240"/>
                <a:gridCol w="552600"/>
                <a:gridCol w="554040"/>
                <a:gridCol w="552240"/>
                <a:gridCol w="552600"/>
                <a:gridCol w="552600"/>
                <a:gridCol w="552240"/>
                <a:gridCol w="461880"/>
              </a:tblGrid>
              <a:tr h="11268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400" y="6214680"/>
            <a:ext cx="871524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1 графам 10, 11, 1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0040" y="714240"/>
          <a:ext cx="8001000" cy="5392800"/>
        </p:xfrm>
        <a:graphic>
          <a:graphicData uri="http://schemas.openxmlformats.org/drawingml/2006/table">
            <a:tbl>
              <a:tblPr/>
              <a:tblGrid>
                <a:gridCol w="2298600"/>
                <a:gridCol w="281160"/>
                <a:gridCol w="466560"/>
                <a:gridCol w="561960"/>
                <a:gridCol w="560520"/>
                <a:gridCol w="560520"/>
                <a:gridCol w="561960"/>
                <a:gridCol w="560160"/>
                <a:gridCol w="560520"/>
                <a:gridCol w="560520"/>
                <a:gridCol w="561960"/>
                <a:gridCol w="466560"/>
              </a:tblGrid>
              <a:tr h="1065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171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10. + 141.3000.20.10. = 141.2100.1.07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10. + 141.3500.21.10. = 141.2100.1.09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федерального статистического наблюдения № 47 в таблице 0660 следует заполнять сведения о работе стационаров на дом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413 от 30 декабря 2002 г.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№ 413 от 30.12.2002 г.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548 от 13 ноября 2003 г.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dcterms:modified xsi:type="dcterms:W3CDTF">2019-12-10T04:38:11Z</dcterms:modified>
  <cp:revision>300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